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738-48A3-4811-B0BE-3FAC684E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5CF-B536-4B92-A976-54362245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FBC-79B4-47E9-9059-4459C8A2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798-9A5C-4113-B125-46930EB0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331-BBAE-4476-90C1-5B5B406A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79C-983D-4088-8C3E-30F6C1F4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B97-1680-4D64-BFF4-EE0EB701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8DA-2F15-4473-A1DD-98606822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112-EF66-4182-83A3-81FBB903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4E4-D274-4D33-8174-AA15EC58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7AF-771C-4A83-8592-D1C2A299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C2D-BF5D-4673-B324-56FBA44E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1090-C7A1-4B57-8D1C-F26183565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1663560" y="762120"/>
            <a:ext cx="61088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для самостоятельного ре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пределить температуру, при которой энергетическая светимость чёрного тела равна 10 кВт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пределить энергию, излучаемую за время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=1 мин из смотрового окошка площадью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=см2 плавильной печи, если её температура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= 1,2 к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емпература верхних слоёв звезды Сириус равна 10 кК. Определить поток энергии, излучаемый с поверхности площадью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=1 км2 этой звез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лучение проявляет двойственную структуру: в одних случаях оно ведёт себя подобно волне, в других – подобно потоку частиц – фото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 явлениям, в которых проявляются волновые свойства излучения, относятся дифракция и интерференция, а к явления, в которых проявляются квантовые свойства света – фотоэффект, эффект Компто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ем меньше длина волны, тем более выражены корпускулярные (квантовые) свойства излуч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кон Стефана-Больцмана (энергетическая светимость абсолютно чёрного те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нергетическая светимость абсолютно серого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кон смещения В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3962520" y="2743200"/>
            <a:ext cx="1430280" cy="533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4038480" y="4419720"/>
            <a:ext cx="1266840" cy="4190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4114800" y="5562720"/>
            <a:ext cx="97164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стоянные велич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тоянная Пла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тоянная Стефана-Больцм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тоянная В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2895480" y="4114800"/>
            <a:ext cx="2752920" cy="73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3048120" y="2514600"/>
            <a:ext cx="2771640" cy="41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3200400" y="5867280"/>
            <a:ext cx="2457360" cy="4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сследование спектра излучения Солнца показывает, что максимум спектральной плотности энергетической светимости соответствует длине волны 500 нм. Принимая Солнце за чёрное тело, определи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нергетическую светимость Сол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ток энергии, излучаемый Солнц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су электромагнитных волн всех длин, излучаемых Солнцем за 1 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нергетическая светимость чёрного тела выражается формулой Стефана-Больцм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емпература излучающей поверхности может быть определена из закона смещения Вина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разив отсюда температуру и подставив её в формулу (1), получ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1328760" cy="495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7620120" y="3733920"/>
            <a:ext cx="971280" cy="742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3200400" y="5486400"/>
            <a:ext cx="2206800" cy="533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изводя вычисления по формуле (2), найдё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ток энергии, изучаемый Солнцем, равен произведению энергетической светимости Солнца на площадь его поверхности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2225520" cy="990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562720" y="5029200"/>
            <a:ext cx="1000080" cy="4096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3733920" y="5715000"/>
            <a:ext cx="1903320" cy="533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ставляя в формулу (3) значения известных величин и производя вычисления, получ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су электромагнитных волн, излучаемых Солнцем за время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=1 с, определим, применив формулу Эйнштейна о соотношении массы и энер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616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нергия электромагнитных волн, излучаемых за время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, равна произведению потока энергии Ф (модности излучения) на время: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 Следовательно,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, отк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изводя вычисления по этой формуле, получ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5943600" y="2438280"/>
            <a:ext cx="990720" cy="422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517920" y="2895480"/>
            <a:ext cx="1434960" cy="505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3429000" y="5181480"/>
            <a:ext cx="2057400" cy="419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4"/>
          <a:stretch/>
        </p:blipFill>
        <p:spPr>
          <a:xfrm>
            <a:off x="4038480" y="3809880"/>
            <a:ext cx="9525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хаил</dc:creator>
  <dc:description/>
  <dc:language>en-US</dc:language>
  <cp:lastModifiedBy>Михаил</cp:lastModifiedBy>
  <dcterms:modified xsi:type="dcterms:W3CDTF">2010-10-17T20:03:06Z</dcterms:modified>
  <cp:revision>22</cp:revision>
  <dc:subject/>
  <dc:title>Слайд 1</dc:title>
</cp:coreProperties>
</file>